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04280" cy="520560"/>
          </a:xfrm>
          <a:prstGeom prst="rect">
            <a:avLst/>
          </a:prstGeom>
          <a:solidFill>
            <a:srgbClr val="547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78760" y="282600"/>
            <a:ext cx="425520" cy="24444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16417d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1641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440" y="511200"/>
            <a:ext cx="511200" cy="67320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81160"/>
            <a:ext cx="255600" cy="4251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440" y="0"/>
            <a:ext cx="51120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960" y="0"/>
            <a:ext cx="255600" cy="11826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52360" y="1181160"/>
            <a:ext cx="255600" cy="2573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736040" y="1440"/>
            <a:ext cx="1360440" cy="5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620120" cy="5205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81800" y="219240"/>
            <a:ext cx="244440" cy="2998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560" y="2131920"/>
            <a:ext cx="80028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9360" y="509760"/>
            <a:ext cx="510840" cy="51084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0"/>
            <a:ext cx="51084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0040" y="0"/>
            <a:ext cx="511200" cy="10224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2360" y="1019160"/>
            <a:ext cx="255600" cy="2735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51240" y="701640"/>
            <a:ext cx="55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992920" y="152280"/>
            <a:ext cx="3087720" cy="1212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774960" y="4862520"/>
            <a:ext cx="1582920" cy="1542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22440" y="6415200"/>
            <a:ext cx="44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7f"/>
                </a:solidFill>
                <a:latin typeface="Arial"/>
              </a:rPr>
              <a:t>Ludwig-Maximilians-Universität Mün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7080" y="46080"/>
            <a:ext cx="1643040" cy="2253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21120" y="263520"/>
            <a:ext cx="2870280" cy="27936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27000" y="3519360"/>
            <a:ext cx="238608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PTT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8" idx="3"/>
            <a:endCxn id="100" idx="1"/>
          </p:cNvCxnSpPr>
          <p:nvPr/>
        </p:nvCxnSpPr>
        <p:spPr>
          <a:xfrm>
            <a:off x="3313080" y="4082040"/>
            <a:ext cx="2699280" cy="36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00" name=""/>
          <p:cNvSpPr/>
          <p:nvPr/>
        </p:nvSpPr>
        <p:spPr>
          <a:xfrm>
            <a:off x="6012000" y="351936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icht relevan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7720" y="54936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PTT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51640" y="6396840"/>
            <a:ext cx="426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PTT = aktivierte partielle Thromboplastinzeit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4T00:01:30Z</dcterms:created>
  <dc:creator>ID</dc:creator>
  <dc:description/>
  <cp:keywords/>
  <dc:language>en-US</dc:language>
  <cp:lastModifiedBy>Steffi &amp; Gregor</cp:lastModifiedBy>
  <cp:lastPrinted>1999-05-13T12:26:48Z</cp:lastPrinted>
  <dcterms:modified xsi:type="dcterms:W3CDTF">2008-10-17T10:49:58Z</dcterms:modified>
  <cp:revision>335</cp:revision>
  <dc:subject/>
  <dc:title>Vorstellung einer Neuheit</dc:title>
</cp:coreProperties>
</file>